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58C-7F31-450F-AC80-787856CF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F83-7833-4FB6-95E1-FDD48A0F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A5E-32CE-466B-AA20-BD862EC4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AD6B-45F3-4D83-8F1D-D7FB6D66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F82-537F-4A90-8F5B-9F6DA5E5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6B1-69D6-4363-8806-92528325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F54-AA52-42F5-9FB4-F5E21F27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73F-42AE-474C-B531-5DEB8638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72D-5728-4239-9680-B4471F0F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8F5-5542-4B4D-9577-CB86772B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29A-58C9-4E9E-BBBE-DC2FD358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935-ED53-4FC6-8EB1-77EF761C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6320" indent="-27144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21600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5680" indent="-2160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EDC4-A9C7-4812-98F0-1D57265D814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22360" y="239760"/>
            <a:ext cx="4461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OMBRE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DOMICILIO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GISTRO FEDERAL DE CONTRIBUYENTES: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TELÉFON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322360" y="252360"/>
            <a:ext cx="4499280" cy="744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86440" y="254160"/>
            <a:ext cx="2160720" cy="722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886440" y="249120"/>
            <a:ext cx="2160720" cy="2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DE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85000" y="647640"/>
            <a:ext cx="21096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DALIDAD DE LA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27400" y="1057320"/>
            <a:ext cx="4497120" cy="500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22360" y="1603440"/>
            <a:ext cx="4499280" cy="436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322360" y="2081160"/>
            <a:ext cx="4499280" cy="636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886440" y="105084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886440" y="14796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886440" y="19242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886440" y="237636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96840" y="1054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96840" y="1486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96840" y="19288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96840" y="236376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96840" y="1062000"/>
            <a:ext cx="1492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ECHA DE FIRM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96840" y="1494000"/>
            <a:ext cx="2109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ÚMERO DE PEDID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96840" y="2355840"/>
            <a:ext cx="2109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ARTID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82760" y="1914480"/>
            <a:ext cx="82404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QUISI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309760" y="1593720"/>
            <a:ext cx="4422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VIGENCIA DEL PEDIDO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309760" y="1050840"/>
            <a:ext cx="447372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UGAR DE ENTREGA DE LOS BIENES (CONDICIONES ESPECIALES)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1382760" y="19242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309760" y="2103480"/>
            <a:ext cx="45244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Y PLAZO PARA EFECTUAR EL PAG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 TÉRMINOS DEL ARTÍCULO 51 DE LA LEY DE ADQUISICIONES, ARRENDAMIENTOS Y SERVICIOS DEL SECTOR PÚBLICO, LOS PAGOS QUE SE GENEREN SE REALIZARÁN DENTRO DE LOS 20 (VEINTE) DÍAS NATURALES CONTADOS A PARTIR DE LA ENTREGA DE LAS FACTURAS RESPECTIVAS, UNA VEZ ENTREGADOS LOS BIENES A ENTERA SATISFACCIÓN DEL ÁREA REQUIRENT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86440" y="1427040"/>
            <a:ext cx="2108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DE LA PÓLIZA DE RESPONSABILIDAD CIVI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6886440" y="1015920"/>
            <a:ext cx="210816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PENA CONVENCION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86440" y="1916280"/>
            <a:ext cx="2108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DEDUCTIVA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6886440" y="2344680"/>
            <a:ext cx="21081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ANTICIP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96840" y="2813040"/>
            <a:ext cx="8950320" cy="283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96840" y="5697360"/>
            <a:ext cx="8948880" cy="300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108000" y="6087960"/>
            <a:ext cx="148104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108000" y="3029040"/>
            <a:ext cx="8926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>
            <a:off x="7142040" y="3029040"/>
            <a:ext cx="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96840" y="2841480"/>
            <a:ext cx="70452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DESCRIPCIÓN DE LOS BIE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108000" y="5697360"/>
            <a:ext cx="8948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EÍDO POR LAS PARTES Y ENTERADAS DE SU CONTENIDO Y ALCANCE LEGAL, SE FIRMA EL PRESENTE PEDIDO POR QUINTUPLICADO POR LOS QUE EN ÉL INTERVINIERON, COMO CONSTANCIA DE SU ACEPTACIÓN, EN  LA CIUDAD DE MÉXICO </a:t>
            </a:r>
            <a:r>
              <a:rPr b="0" lang="es-MX" sz="700" spc="-1" strike="noStrike">
                <a:solidFill>
                  <a:srgbClr val="ff0000"/>
                </a:solidFill>
                <a:latin typeface="Arial"/>
              </a:rPr>
              <a:t>(SEÑALAR LA FECHA EN QUE SE FIRMARÁ EL PEDIDO)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589040" y="1046160"/>
            <a:ext cx="0" cy="38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122400" y="824040"/>
            <a:ext cx="907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3"/>
          <p:cNvSpPr/>
          <p:nvPr/>
        </p:nvSpPr>
        <p:spPr>
          <a:xfrm>
            <a:off x="900000" y="330120"/>
            <a:ext cx="1440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Arial"/>
              </a:rPr>
              <a:t>SEÑALAR EL ÁREA O UNIDAD QUE ADQUIRIRÁ LOS BIENES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5"/>
          <p:cNvSpPr/>
          <p:nvPr/>
        </p:nvSpPr>
        <p:spPr>
          <a:xfrm>
            <a:off x="133200" y="3013200"/>
            <a:ext cx="7045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CARACTERÍSTICAS, ESPECIFICACIONES Y PRECIOS UNITARIOS DE LOS BIENES, SE ENCUENTRAN DESCRITOS EN EL ANEXO ÚNICO DEL PRESENTE PEDIDO, EL CUAL FORMA PARTE INTEGRANTE DEL MISM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31"/>
          <p:cNvSpPr/>
          <p:nvPr/>
        </p:nvSpPr>
        <p:spPr>
          <a:xfrm>
            <a:off x="1596960" y="1055520"/>
            <a:ext cx="666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HOJ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 DE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44"/>
          <p:cNvSpPr/>
          <p:nvPr/>
        </p:nvSpPr>
        <p:spPr>
          <a:xfrm>
            <a:off x="1023840" y="800280"/>
            <a:ext cx="12337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EDIDO DE BI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45"/>
          <p:cNvSpPr/>
          <p:nvPr/>
        </p:nvSpPr>
        <p:spPr>
          <a:xfrm>
            <a:off x="6886440" y="69696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3"/>
          <p:cNvSpPr/>
          <p:nvPr/>
        </p:nvSpPr>
        <p:spPr>
          <a:xfrm>
            <a:off x="3816360" y="6105600"/>
            <a:ext cx="11286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REQUIRE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89"/>
          <p:cNvSpPr/>
          <p:nvPr/>
        </p:nvSpPr>
        <p:spPr>
          <a:xfrm>
            <a:off x="108000" y="1916280"/>
            <a:ext cx="12240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SUFICIENCI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98"/>
          <p:cNvSpPr/>
          <p:nvPr/>
        </p:nvSpPr>
        <p:spPr>
          <a:xfrm>
            <a:off x="7142040" y="5383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08"/>
          <p:cNvSpPr/>
          <p:nvPr/>
        </p:nvSpPr>
        <p:spPr>
          <a:xfrm>
            <a:off x="8561520" y="51865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10"/>
          <p:cNvSpPr/>
          <p:nvPr/>
        </p:nvSpPr>
        <p:spPr>
          <a:xfrm>
            <a:off x="7983360" y="5192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15"/>
          <p:cNvSpPr/>
          <p:nvPr/>
        </p:nvSpPr>
        <p:spPr>
          <a:xfrm>
            <a:off x="7983360" y="5186520"/>
            <a:ext cx="1063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29160" bIns="-2916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16"/>
          <p:cNvSpPr/>
          <p:nvPr/>
        </p:nvSpPr>
        <p:spPr>
          <a:xfrm>
            <a:off x="7983360" y="500364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23"/>
          <p:cNvSpPr/>
          <p:nvPr/>
        </p:nvSpPr>
        <p:spPr>
          <a:xfrm>
            <a:off x="798336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26"/>
          <p:cNvSpPr/>
          <p:nvPr/>
        </p:nvSpPr>
        <p:spPr>
          <a:xfrm>
            <a:off x="856152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6"/>
          <p:cNvSpPr/>
          <p:nvPr/>
        </p:nvSpPr>
        <p:spPr>
          <a:xfrm>
            <a:off x="7147080" y="4813200"/>
            <a:ext cx="19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9"/>
          <p:cNvSpPr/>
          <p:nvPr/>
        </p:nvSpPr>
        <p:spPr>
          <a:xfrm>
            <a:off x="7170840" y="4991040"/>
            <a:ext cx="82080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8"/>
          <p:cNvSpPr/>
          <p:nvPr/>
        </p:nvSpPr>
        <p:spPr>
          <a:xfrm>
            <a:off x="231840" y="6138720"/>
            <a:ext cx="120312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PROVEED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83"/>
          <p:cNvSpPr/>
          <p:nvPr/>
        </p:nvSpPr>
        <p:spPr>
          <a:xfrm>
            <a:off x="7259760" y="6113520"/>
            <a:ext cx="1725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CONTRATA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98 CuadroTexto"/>
          <p:cNvSpPr/>
          <p:nvPr/>
        </p:nvSpPr>
        <p:spPr>
          <a:xfrm>
            <a:off x="8018640" y="481320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1 CuadroTexto"/>
          <p:cNvSpPr/>
          <p:nvPr/>
        </p:nvSpPr>
        <p:spPr>
          <a:xfrm>
            <a:off x="8018640" y="5003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.V.A.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2 CuadroTexto"/>
          <p:cNvSpPr/>
          <p:nvPr/>
        </p:nvSpPr>
        <p:spPr>
          <a:xfrm>
            <a:off x="8018640" y="5192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625760" y="6086520"/>
            <a:ext cx="182232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3468600" y="6093000"/>
            <a:ext cx="182268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720900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83"/>
          <p:cNvSpPr/>
          <p:nvPr/>
        </p:nvSpPr>
        <p:spPr>
          <a:xfrm>
            <a:off x="1692360" y="6103800"/>
            <a:ext cx="172728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ADMINISTRADOR DEL CONTRAT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3"/>
          <p:cNvSpPr/>
          <p:nvPr/>
        </p:nvSpPr>
        <p:spPr>
          <a:xfrm>
            <a:off x="5689440" y="6105600"/>
            <a:ext cx="1128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TÉCN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534204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66 Imagen" descr="LOGO SALUD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08000" y="26028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21:21Z</dcterms:created>
  <dc:creator>Mario González</dc:creator>
  <dc:description/>
  <dc:language>en-US</dc:language>
  <cp:lastModifiedBy>CCINSHAE</cp:lastModifiedBy>
  <cp:lastPrinted>2012-06-26T00:59:07Z</cp:lastPrinted>
  <dcterms:modified xsi:type="dcterms:W3CDTF">2017-07-20T18:27:13Z</dcterms:modified>
  <cp:revision>551</cp:revision>
  <dc:subject/>
  <dc:title>Diapositiva 1</dc:title>
</cp:coreProperties>
</file>